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1.xml.rels" ContentType="application/vnd.openxmlformats-package.relationships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10.jpeg" ContentType="image/jpeg"/>
  <Override PartName="/ppt/media/image7.png" ContentType="image/png"/>
  <Override PartName="/ppt/media/image14.jpeg" ContentType="image/jpe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BC3C-6E3E-4B7C-B15B-53483F79D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AE86-5104-4CD1-B289-AF432813D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1BC4-2543-4ED5-BAFB-A1882BBC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EAA-D90C-43DE-A731-EDD436C1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E695-1691-43EA-9FB8-C4609695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FD1-805D-45EF-AD4D-313777C4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19B0-A0B8-47CF-B3F8-D5CA384B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1A32-EECE-40A6-AC28-0924E21D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10B8-E57E-4F4C-B350-5505ACB3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E9F3-DEBF-4600-823E-4E6E1F52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3382-51A6-45AA-BB36-8F938706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9BF7-D8A8-451C-83D8-853182CD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8824-7266-4C9D-9F66-A39E6A44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2D6-5039-442A-ACF7-FBF58A6B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4B9A-E2C4-406D-A116-03C8F760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2261-86EE-42BE-BBAB-1C856A15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34B2-EE9D-4B3D-A26E-DF2CEEE9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15A1-8FC5-4F38-AB70-CE2D98F4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EDDE-2500-4CEA-B99E-E7DEEA62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029C5-3048-4F50-900B-4794DC4C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8F68A-C512-4B7B-9C94-B0B293BB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49882-5027-4F5B-9272-A56B7614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CC458-6613-419E-88CC-2DF18DF7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3C531-7009-4BBC-9CA6-35D0A87F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F020-2DEA-4524-9446-86C9AC20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36356-8571-4055-9965-D3E7F1D2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9DDE5-6CDC-44C7-9587-524D0CEC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3E429-53BB-4EAC-BD47-B006B735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A39B0-C5BF-4581-A4B9-1FAB90AF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03DBC-F9FD-49BE-999A-5A27BFFC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D758B-BFD8-4ACE-B645-B20432CD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47093-964C-4DE3-BC84-67CE312D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8AC-BBCB-4950-BA7F-1456F1FB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5CE-93AB-492F-B440-9429AA87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C93-EE65-4635-8ABE-04145E07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E04-1E36-4FF1-8122-F1BDFE69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C5E-E6E8-4CA6-AEFD-57F8FA4E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515-54DA-412F-9CE7-5A5E471C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23FA-84E7-4582-82FE-7363FFE46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07A1-6573-4E70-B7F4-52AD61EFDC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E462-4945-4CDE-862F-71D1DFB0A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23DC-0CEA-42E4-B035-85CC3FDC1E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532D-93D0-46B6-B185-0255C1F02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THFsynthesispathway.p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bacterial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7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phalospor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administered parenter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artly metabolized by liver but still usually excreted in urine (like penicill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efoperazone &amp; ceftriaxone (mainly via b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 do not enter CSF (even if meninges inflam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s same as penicillins – i.e,  bactericidal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ency to be more resistant than penicillins to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lactamases, but not to a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MRSA is resistant to cephalospo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mec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 spectrum anti-parasi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work on tapeworms, lice, m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tion of GABA-ergic neural/neuro-muscular transmission leads to paralysis and ultimately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m detaches and is expelled from the body or phagocyt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ult/Larval Tapew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ziquantel (intestinal tapeworms, cysticerc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mechanism, affects Ca perm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losamide (tapeworm specif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uples oxidative phosphory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des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nworm, hookworm, strongyloidiasis, ascariasis, filar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antel Pamoate (anti pin/round/h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tic organic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bendazole (antipinworm, round/h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dle pois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romosome nondisj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abendazole (antiround/hookw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additive, fungi/parasiticide, chel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bendazole (antiw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glucose uptake by interrupting microtubular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des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nworm, hookworm, strongyloidiasis, ascariasis, filar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perazine (antihelmin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yzing parasites so body can ex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hylcarbamazine (filaria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ibit arachidonic acid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xyxyline (Wuchereria bancrof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ills the symbiotic bacteria Wolbachia of Wuchereria (filariasis) and Wuchereria 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istosomiasis and Fluk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lat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ziquantel (DO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mechanism, may affect fluke Ca permeability resulting in par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iclabendazole/Albendazole/Mebendazole (Lung/Liver Fluk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bies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athion/Permeth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athion is Insectacide binds irreversibily to cholinester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ethrin is neurotoxin, slows access of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lls adults and eggs in 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d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cticide with bad side effects, not 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 flipH="1">
            <a:off x="-720" y="0"/>
            <a:ext cx="9296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ifung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from mycology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 flipH="1">
            <a:off x="-720" y="0"/>
            <a:ext cx="9296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0" y="76320"/>
            <a:ext cx="548640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ntifungal ag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best </a:t>
            </a: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target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 is only in fungi not in hum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Calibri"/>
              </a:rPr>
              <a:t>Fungitoxic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cause fungal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Calibri"/>
              </a:rPr>
              <a:t>Fungistatic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 drugs 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prevent further growth 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(gives immune system 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time to catch 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 flipH="1">
            <a:off x="9143280" y="0"/>
            <a:ext cx="152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-76320" y="-76320"/>
            <a:ext cx="9220320" cy="69343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0" y="71280"/>
            <a:ext cx="8839080" cy="22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5-fluorocytosine (5-FC)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ungicidal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enters via cytosine perm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deaminated to 5-fluorouracil (5-F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(cytosine deaminase absent in human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5013360" y="87948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"/>
          <p:cNvSpPr/>
          <p:nvPr/>
        </p:nvSpPr>
        <p:spPr>
          <a:xfrm>
            <a:off x="1676520" y="3733920"/>
            <a:ext cx="457200" cy="0"/>
          </a:xfrm>
          <a:prstGeom prst="line">
            <a:avLst/>
          </a:prstGeom>
          <a:ln w="54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7"/>
          <p:cNvSpPr/>
          <p:nvPr/>
        </p:nvSpPr>
        <p:spPr>
          <a:xfrm>
            <a:off x="3962520" y="3733920"/>
            <a:ext cx="457200" cy="0"/>
          </a:xfrm>
          <a:prstGeom prst="line">
            <a:avLst/>
          </a:prstGeom>
          <a:ln w="54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1828800" y="3429000"/>
            <a:ext cx="0" cy="8380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1155240" y="4255920"/>
            <a:ext cx="16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perm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778680" y="35053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5-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1"/>
          <p:cNvSpPr/>
          <p:nvPr/>
        </p:nvSpPr>
        <p:spPr>
          <a:xfrm>
            <a:off x="2323440" y="3535200"/>
            <a:ext cx="11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5-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2258280" y="3036960"/>
            <a:ext cx="25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side fungal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4566240" y="34941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5-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3380040" y="4255920"/>
            <a:ext cx="178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deamin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5"/>
          <p:cNvSpPr/>
          <p:nvPr/>
        </p:nvSpPr>
        <p:spPr>
          <a:xfrm flipV="1">
            <a:off x="5638680" y="3428640"/>
            <a:ext cx="1143000" cy="304920"/>
          </a:xfrm>
          <a:prstGeom prst="line">
            <a:avLst/>
          </a:prstGeom>
          <a:ln w="54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6"/>
          <p:cNvSpPr/>
          <p:nvPr/>
        </p:nvSpPr>
        <p:spPr>
          <a:xfrm>
            <a:off x="7102800" y="3036960"/>
            <a:ext cx="178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7"/>
          <p:cNvSpPr/>
          <p:nvPr/>
        </p:nvSpPr>
        <p:spPr>
          <a:xfrm>
            <a:off x="5715000" y="3886200"/>
            <a:ext cx="1219320" cy="838080"/>
          </a:xfrm>
          <a:prstGeom prst="line">
            <a:avLst/>
          </a:prstGeom>
          <a:ln w="54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8"/>
          <p:cNvSpPr/>
          <p:nvPr/>
        </p:nvSpPr>
        <p:spPr>
          <a:xfrm>
            <a:off x="7108200" y="4205160"/>
            <a:ext cx="160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in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447920" y="685800"/>
            <a:ext cx="5943600" cy="402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ungal sterols as a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•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Calibri"/>
              <a:buChar char="•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Fungal sterols are generally C28 sterols; especially ergostero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Calibri"/>
              <a:buChar char="•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(Humans cells have C27 sterols i.e.; ch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neration cephalospor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fazolin (parenteral) and cephalexin (o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74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Gram-positive coc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74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 col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Klebsiella pneumon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NOT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74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-neg coc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74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ococ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74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S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74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Gram-neg r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-76320" y="0"/>
            <a:ext cx="4648320" cy="685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0" y="0"/>
            <a:ext cx="4648320" cy="671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60" indent="-507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llylam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760" indent="-507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(terbinafine = Lamisil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  <a:ea typeface="Arial"/>
              </a:rPr>
              <a:t>®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, naftid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760" indent="-507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Inhibit squalene epoxidase .fungist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760" indent="-507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760" indent="-507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Fungistatic/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760" indent="-50760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760" indent="-50760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Accumulate in stratum corneum.  High activity for ringworm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760" indent="-50760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5089680" y="609480"/>
            <a:ext cx="3292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etyl 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qua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qualene ep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no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rgo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6"/>
          <p:cNvSpPr/>
          <p:nvPr/>
        </p:nvSpPr>
        <p:spPr>
          <a:xfrm>
            <a:off x="6629400" y="11430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7"/>
          <p:cNvSpPr/>
          <p:nvPr/>
        </p:nvSpPr>
        <p:spPr>
          <a:xfrm>
            <a:off x="6629400" y="266688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8"/>
          <p:cNvSpPr/>
          <p:nvPr/>
        </p:nvSpPr>
        <p:spPr>
          <a:xfrm>
            <a:off x="6629400" y="38862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6705720" y="52578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2209680" y="1981080"/>
            <a:ext cx="3962520" cy="762120"/>
          </a:xfrm>
          <a:prstGeom prst="line">
            <a:avLst/>
          </a:prstGeom>
          <a:ln w="540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-76320" y="0"/>
            <a:ext cx="4648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0" y="0"/>
            <a:ext cx="4572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z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Inhibit lanosterol demethyl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ungist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Miconaz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Ketoconaz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Fluconaz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Itraconaz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Voriconaz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Posaconaz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5089680" y="609480"/>
            <a:ext cx="3292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etyl 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qua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qualene ep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no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rgo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6"/>
          <p:cNvSpPr/>
          <p:nvPr/>
        </p:nvSpPr>
        <p:spPr>
          <a:xfrm>
            <a:off x="6629400" y="11430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"/>
          <p:cNvSpPr/>
          <p:nvPr/>
        </p:nvSpPr>
        <p:spPr>
          <a:xfrm>
            <a:off x="6629400" y="266688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"/>
          <p:cNvSpPr/>
          <p:nvPr/>
        </p:nvSpPr>
        <p:spPr>
          <a:xfrm>
            <a:off x="6629400" y="38862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6705720" y="52578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2209680" y="1981080"/>
            <a:ext cx="3962520" cy="3353040"/>
          </a:xfrm>
          <a:prstGeom prst="line">
            <a:avLst/>
          </a:prstGeom>
          <a:ln w="540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0" y="0"/>
            <a:ext cx="853452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zole resistance in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Candida albicans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veral different types of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Calibri"/>
              <a:buChar char="•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Mutation in target (lanosterol demethyl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Upregulation of pumps exporting drug     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Different drugs affected differently by  pumps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Different yeast species that are inherently  resistant to azoles are appearing as 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-76320" y="0"/>
            <a:ext cx="4648320" cy="685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-228600" y="0"/>
            <a:ext cx="4800600" cy="833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ly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irst fungitoxic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mphotericin B (A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ystatin (oral, not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ind to ergosterol and form ion channels in funga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educed nephrotoxicity of AmB if given as lipid complex or in lip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esistance uncommon (often sterols chang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5312520" y="533520"/>
            <a:ext cx="2797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etyl 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qua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qualene ep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no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rgo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6"/>
          <p:cNvSpPr/>
          <p:nvPr/>
        </p:nvSpPr>
        <p:spPr>
          <a:xfrm>
            <a:off x="6629400" y="11430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7"/>
          <p:cNvSpPr/>
          <p:nvPr/>
        </p:nvSpPr>
        <p:spPr>
          <a:xfrm>
            <a:off x="6629400" y="25909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8"/>
          <p:cNvSpPr/>
          <p:nvPr/>
        </p:nvSpPr>
        <p:spPr>
          <a:xfrm>
            <a:off x="6629400" y="38862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9"/>
          <p:cNvSpPr/>
          <p:nvPr/>
        </p:nvSpPr>
        <p:spPr>
          <a:xfrm>
            <a:off x="6705720" y="52578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0"/>
          <p:cNvSpPr/>
          <p:nvPr/>
        </p:nvSpPr>
        <p:spPr>
          <a:xfrm>
            <a:off x="4038480" y="4419720"/>
            <a:ext cx="1752840" cy="1371600"/>
          </a:xfrm>
          <a:prstGeom prst="line">
            <a:avLst/>
          </a:prstGeom>
          <a:ln w="540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0"/>
            <a:ext cx="9144000" cy="820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chinocandins (caspofungin, 2001: micafungin, 200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hibit </a:t>
            </a:r>
            <a:r>
              <a:rPr b="1" lang="en-US" sz="36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(1-3) glucan synthetase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involved in forming carbohydrate polymers in hyphal w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pproved for invasive aspergillosis and invasive and serious mucosal candidi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sistance when occurs has been linked to mutations in </a:t>
            </a:r>
            <a:r>
              <a:rPr b="1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-glucan synthet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etabolism is cytochrome P450-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-152280" y="0"/>
            <a:ext cx="9296280" cy="74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riseofulvin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Accumulates in stratum corn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First effective oral therapy for 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dermatophytes (only fungi respon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Interferes with microtubules and spindle 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formation during m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0" y="0"/>
            <a:ext cx="9220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0" y="0"/>
            <a:ext cx="9144000" cy="303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Numerous other drugs are topical agents.  May be caustic and impossible to use as systemic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E.g. Whitfield oin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salicylic acid, benzoic acid (weak acids, not ionized at lower p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838080" y="4876920"/>
            <a:ext cx="6705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6"/>
          <p:cNvSpPr/>
          <p:nvPr/>
        </p:nvSpPr>
        <p:spPr>
          <a:xfrm>
            <a:off x="838080" y="5791320"/>
            <a:ext cx="6705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7"/>
          <p:cNvSpPr/>
          <p:nvPr/>
        </p:nvSpPr>
        <p:spPr>
          <a:xfrm flipV="1">
            <a:off x="6172200" y="4876920"/>
            <a:ext cx="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8"/>
          <p:cNvSpPr/>
          <p:nvPr/>
        </p:nvSpPr>
        <p:spPr>
          <a:xfrm flipV="1">
            <a:off x="1523880" y="4876920"/>
            <a:ext cx="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1863360" y="3886200"/>
            <a:ext cx="6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1889280" y="496872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4551480" y="5045040"/>
            <a:ext cx="8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H</a:t>
            </a:r>
            <a:r>
              <a:rPr b="1" lang="en-US" sz="3200" spc="-1" strike="noStrike" baseline="30000">
                <a:solidFill>
                  <a:srgbClr val="ffcc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A</a:t>
            </a:r>
            <a:r>
              <a:rPr b="1" lang="en-US" sz="3200" spc="-1" strike="noStrike" baseline="30000">
                <a:solidFill>
                  <a:srgbClr val="ffcc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2"/>
          <p:cNvSpPr/>
          <p:nvPr/>
        </p:nvSpPr>
        <p:spPr>
          <a:xfrm>
            <a:off x="2895480" y="5257800"/>
            <a:ext cx="1295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3"/>
          <p:cNvSpPr/>
          <p:nvPr/>
        </p:nvSpPr>
        <p:spPr>
          <a:xfrm>
            <a:off x="3276720" y="5486400"/>
            <a:ext cx="533160" cy="0"/>
          </a:xfrm>
          <a:prstGeom prst="line">
            <a:avLst/>
          </a:prstGeom>
          <a:ln w="316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4"/>
          <p:cNvSpPr/>
          <p:nvPr/>
        </p:nvSpPr>
        <p:spPr>
          <a:xfrm flipH="1">
            <a:off x="2090160" y="4417200"/>
            <a:ext cx="13680" cy="614880"/>
          </a:xfrm>
          <a:prstGeom prst="line">
            <a:avLst/>
          </a:prstGeom>
          <a:ln w="316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 flipH="1">
            <a:off x="2320560" y="4493160"/>
            <a:ext cx="7200" cy="6177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4632480" y="413064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alibri"/>
              </a:rPr>
              <a:t>acid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generation cephalospor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coverage of Gram-neg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coverage of Gram-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e activity shown by different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fotetan, cefotox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cteroides fragilis  - anaero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fomandole, cefuroxime, cefac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. influenzae. M. cattharal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generation cephalospor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coverage of Gram-neg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CS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cept cefoperazone and cefixi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associated with extended spectrum beta-lactamases (ESBL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lebsiell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E. col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against several Gram-neg includ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iss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eftriax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arenteral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efiximin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al for gonococc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foperazone &amp; ceftazid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e agains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seudomo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injection of ceftriaxone (~ 8h half life)  usually effective for acute otitis 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generation cephalospor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160" indent="-65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fepi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s coverage of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to include activity against Gram+ found in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ephalospor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penicillin-resistant pneumococci and for severa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actamase producing Gram-negatives including Enterob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phalosporins  - Tox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160" indent="-65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rgy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ross-reactivity within cephalosporins as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ross-reaction with penicill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 at injection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lebitis after i.v.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increase nephrotoxicity of aminoglyco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ulfuram reaction with some (e.g. cefoperaxzone, cefotetan, cefamand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5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act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160" indent="-65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ztreonam 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nobact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Acts on PBP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activity on Gram-positive bacteria or anae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t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actamases produced by many Gram-negative rods includ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lebsiell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seudomon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to ESB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ergistic with aminoglyco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longed half-life in renal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significant cross-allerginicity with penicil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lact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160" indent="-65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ipenem, meropenem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arbapen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activity against Gram positive cocci, Gram-negative rods, and anae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ith aminoglycoside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mon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ipenem is administered with cilastin to prevent inactivation by renal dehydropeptid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S toxicity at high con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comyc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cidal glycoprotein inhibiting cell wall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s D-Ala-D-Ala pentapeptide side chain to prevent transpeptidation in growing peptidogly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ce in VRE and VRSA is due to change of one D-ala to D-lac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spectrum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ly for MRSA, penicillin-resistant pneumococcu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. diffic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d unchanged in urine. Not absorbed from gut so only used orally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. diffic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phrotoxic, ototoxic, RED MAN syndrome with rapid i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rcRect l="0" t="52645" r="49280" b="0"/>
          <a:stretch/>
        </p:blipFill>
        <p:spPr>
          <a:xfrm>
            <a:off x="457200" y="1239840"/>
            <a:ext cx="8534520" cy="56181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4419720" y="4495680"/>
            <a:ext cx="609480" cy="533520"/>
          </a:xfrm>
          <a:prstGeom prst="rect">
            <a:avLst/>
          </a:prstGeom>
          <a:solidFill>
            <a:srgbClr val="faee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152280"/>
            <a:ext cx="7772400" cy="132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tracyclines: Mode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ible binding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S ribo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unit  blocking aminoacyl-tRNA  access to acceptor site (A 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-wall active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icill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spectru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icillinase suscep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icillinase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er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phalospo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spectrum (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er spectrum (2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apen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treo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co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533520" y="4572000"/>
            <a:ext cx="701028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380880" y="1676520"/>
            <a:ext cx="7848720" cy="6858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tracyc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usually given orally and absorbed from small intes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4c10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1010"/>
                </a:solidFill>
                <a:latin typeface="Arial"/>
              </a:rPr>
              <a:t>BUT </a:t>
            </a:r>
            <a:r>
              <a:rPr b="0" lang="en-US" sz="2000" spc="-1" strike="noStrike">
                <a:solidFill>
                  <a:srgbClr val="4c1010"/>
                </a:solidFill>
                <a:latin typeface="Arial"/>
              </a:rPr>
              <a:t>Interference of uptake by food, divalent cations (Ca</a:t>
            </a:r>
            <a:r>
              <a:rPr b="0" lang="en-US" sz="2000" spc="-1" strike="noStrike" baseline="30000">
                <a:solidFill>
                  <a:srgbClr val="4c1010"/>
                </a:solidFill>
                <a:latin typeface="Arial"/>
              </a:rPr>
              <a:t>++</a:t>
            </a:r>
            <a:r>
              <a:rPr b="0" lang="en-US" sz="2000" spc="-1" strike="noStrike">
                <a:solidFill>
                  <a:srgbClr val="4c1010"/>
                </a:solidFill>
                <a:latin typeface="Arial"/>
              </a:rPr>
              <a:t>, Mg</a:t>
            </a:r>
            <a:r>
              <a:rPr b="0" lang="en-US" sz="2000" spc="-1" strike="noStrike" baseline="30000">
                <a:solidFill>
                  <a:srgbClr val="4c1010"/>
                </a:solidFill>
                <a:latin typeface="Arial"/>
              </a:rPr>
              <a:t>++</a:t>
            </a:r>
            <a:r>
              <a:rPr b="0" lang="en-US" sz="2000" spc="-1" strike="noStrike">
                <a:solidFill>
                  <a:srgbClr val="4c1010"/>
                </a:solidFill>
                <a:latin typeface="Arial"/>
              </a:rPr>
              <a:t>, Fe</a:t>
            </a:r>
            <a:r>
              <a:rPr b="0" lang="en-US" sz="2000" spc="-1" strike="noStrike" baseline="30000">
                <a:solidFill>
                  <a:srgbClr val="4c1010"/>
                </a:solidFill>
                <a:latin typeface="Arial"/>
              </a:rPr>
              <a:t>++,</a:t>
            </a:r>
            <a:r>
              <a:rPr b="0" lang="en-US" sz="2000" spc="-1" strike="noStrike">
                <a:solidFill>
                  <a:srgbClr val="4c1010"/>
                </a:solidFill>
                <a:latin typeface="Arial"/>
              </a:rPr>
              <a:t> Al</a:t>
            </a:r>
            <a:r>
              <a:rPr b="0" lang="en-US" sz="2000" spc="-1" strike="noStrike" baseline="30000">
                <a:solidFill>
                  <a:srgbClr val="4c1010"/>
                </a:solidFill>
                <a:latin typeface="Arial"/>
              </a:rPr>
              <a:t>+++</a:t>
            </a:r>
            <a:r>
              <a:rPr b="0" lang="en-US" sz="2000" spc="-1" strike="noStrike">
                <a:solidFill>
                  <a:srgbClr val="4c1010"/>
                </a:solidFill>
                <a:latin typeface="Arial"/>
              </a:rPr>
              <a:t> ) and antacids, dairy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against many Gram + and Gram – bacteri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erobes, rickettsiae, chlamydiae, mycoplasma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ecycline has wider ran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ust be given i.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SA inclu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b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seudomon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t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etracyclines act against protozoa and those filarial nematodes (that have endosymbiotic 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doxycylin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tamoeb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lasmodium falcipar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tracyc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all body fluids wel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 CS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~10-20% plasma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ly excreted in bile and into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nterohepatic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excreted in u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doxycycline nor tigecyc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tracyclines tox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 effects on 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stibular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asional photo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ney excretion means doses need to be watched in renal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ecial effect on growing bon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ter breast milk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cross plac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helation with calcium causes binding to growing bones/teeth -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5849-3280-442F-A460-AE9B9ED3E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gecycline 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ygaci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me availabl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very broad spectrum of activity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RSA, VRSA, VISA, and coagulase-neg St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icillin resistant and susceptible streptococ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ococci (including V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-positive r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obacteriace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inetobac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ultidrug resis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erobes (Gram + and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amydiae, rickettsiae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gionell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growing myc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effective against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seudomonas or Prote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efflux pump is effective at removing it thereby causing intrinsic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crolides – block transpeptid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914400" y="1262160"/>
            <a:ext cx="762804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rythromycin, azithromycin, clarithro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l bio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against campylobacter, mycoplasma, legionella, Gram-pos cocci, some gram-ne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zithromyc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n in tissues and phagocytes higher than plasma.  Slow release allow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ce a week dos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alf life 2-4 days).  Especially useful for chlamydial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arithromyc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cobacterium av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609480" y="1981080"/>
            <a:ext cx="2590920" cy="3048120"/>
          </a:xfrm>
          <a:prstGeom prst="ellipse">
            <a:avLst/>
          </a:prstGeom>
          <a:solidFill>
            <a:srgbClr val="f8f6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noglycos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ad spectr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tami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ka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bra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ilmi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clinical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pto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o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a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4191120" y="2666880"/>
            <a:ext cx="41148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35320" y="5334120"/>
            <a:ext cx="81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work alone  on serious infections by enterococci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ptococci but can Increase antimicrobial activity of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when used in combination for the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716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translation – one effect of aminoglyco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rsch_figure07"/>
          <p:cNvPicPr/>
          <p:nvPr/>
        </p:nvPicPr>
        <p:blipFill>
          <a:blip r:embed="rId1"/>
          <a:stretch/>
        </p:blipFill>
        <p:spPr>
          <a:xfrm>
            <a:off x="228600" y="1430280"/>
            <a:ext cx="4495680" cy="41133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826920" y="5599080"/>
            <a:ext cx="36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glisi.stanford.edu/researc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800600" y="2133720"/>
            <a:ext cx="419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tamicin in major groove of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site where aa-tRNA interacts with mRNA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ortion of ribosomal s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antibiotic causes misreading of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 is within the 30S sub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inoglycos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harged (polycations) and poor lipid solu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penetrate human cell cytoplasm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given by i.v. or i.m. inj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ly excreted in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independent of microbial concentration so very useful for intrabdominal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istent suppression of microbial growth after dropping to non-lethal level (post antibiotic eff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ose once a day is more effective and less toxic than same amount split and administered  in 3 doses per 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city largely depends on depends on time the drug remains above a toxic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inoglycosides - Tox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omuscular block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calcium in presynaptic region – reversible with calcium gluc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phrotoxic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erence with tubular function including excess loss of Mg and Ca:  increased toxicity in combination with vancomycin, amphotericin B, diuretics, several others.  Generally rever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otoxicity (auditory and vestibula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n-rever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icill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erived from 6-aminopenicillanic acid and ha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actam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in resistance to stomach acid, polar, not metabolized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excreted unchanged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r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th via glomerular filtration and tubular secretion (latter is inhibited by Probenic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icillin and nafcillin also excreted in 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aine/benzathine forms of Penicillin G injected i.m. to give long half-life, otherwise plasma half life is short (30-60 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nly cross blood brain barrier in when meninges infla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325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vel uses in the works for aminoglycos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of genetic disease in humans when caused by premature stop codon in ge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inomyc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structure to aminoglyco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on 30S rib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treat penicillin-resista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isseria gonorrhoe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 (all act on 50S subun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8390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amphenic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de spectrum of activity.  Significant toxicities.  Inactivated by liver (liver action has low activity in newbor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lastic anemia (gray baby syndro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tricted uses (e.g. serious rickettsial infec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damycin (a lincomycin)       ML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sistanc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s like macrol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teroides, several anaerob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danger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lostrid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fficile colit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nupristin-dalfoprist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L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sistance known 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xture of streptogrami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RE 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terococcus faec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t no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. faecal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zo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RSA, MRSA, VRE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faeciu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.faecal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cause mild thrombocytopenia and bone marrow  supp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ugs affecting nucleic acid syn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at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onamides (derivatives of sulfanilamide structural analog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nobenzo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methop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gyras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no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BAA2-F94E-4FA5-B1A6-95C3B7344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Tetrahydrofolate synthesis pathwa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523880"/>
            <a:ext cx="7715160" cy="48355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urine and pyrimidine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8"/>
          <p:cNvSpPr/>
          <p:nvPr/>
        </p:nvSpPr>
        <p:spPr>
          <a:xfrm>
            <a:off x="1371600" y="1905120"/>
            <a:ext cx="2971800" cy="83808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9"/>
          <p:cNvSpPr/>
          <p:nvPr/>
        </p:nvSpPr>
        <p:spPr>
          <a:xfrm>
            <a:off x="1371600" y="5029200"/>
            <a:ext cx="2971800" cy="83808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762120" y="5105520"/>
            <a:ext cx="7315200" cy="1066680"/>
          </a:xfrm>
          <a:prstGeom prst="rect">
            <a:avLst/>
          </a:prstGeom>
          <a:solidFill>
            <a:srgbClr val="faee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um of sulfonam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-positives and gram-neg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car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lamy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lfonamides </a:t>
            </a:r>
            <a:r>
              <a:rPr b="1" i="1" lang="en-US" sz="2400" spc="-1" strike="noStrike" u="sng">
                <a:solidFill>
                  <a:srgbClr val="993300"/>
                </a:solidFill>
                <a:uFillTx/>
                <a:latin typeface="Arial"/>
              </a:rPr>
              <a:t>stimulat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rickettsial grow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tivity against anae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erse reactions of sulfonam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sea and diarr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ver and skin rashes, exfoliative dermat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n-Johnson syndrome (&lt;1% treatment cour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stalluria, hematuria (drugs precipitate at acid p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atopoietic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olytic anemia or aplastic a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ulocytopenia, thrombocytopenia, leukem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-6-DH deficiency – enhanced hemolytic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given in late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icterus (brain damage due to excess jaund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methoprim (TM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ly excreted in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absorption orally.  Lipid solubility enhances distribution (more than sulfamethoxazole - SMX) including into C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use gives similar side effects to sulfonam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length of treatment time if used in combination with sulfona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MP-SMX for UTIs and Pneumocystis prophyl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imethamine-sulfadiazine for 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xo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no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 with DNA gyrase and DNA topoisomerase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8883n30_15"/>
          <p:cNvPicPr/>
          <p:nvPr/>
        </p:nvPicPr>
        <p:blipFill>
          <a:blip r:embed="rId1"/>
          <a:stretch/>
        </p:blipFill>
        <p:spPr>
          <a:xfrm>
            <a:off x="609480" y="2209680"/>
            <a:ext cx="8534520" cy="3052800"/>
          </a:xfrm>
          <a:prstGeom prst="rect">
            <a:avLst/>
          </a:prstGeom>
          <a:ln w="0">
            <a:noFill/>
          </a:ln>
        </p:spPr>
      </p:pic>
      <p:sp>
        <p:nvSpPr>
          <p:cNvPr id="222" name="Line 5"/>
          <p:cNvSpPr/>
          <p:nvPr/>
        </p:nvSpPr>
        <p:spPr>
          <a:xfrm>
            <a:off x="6477120" y="3886200"/>
            <a:ext cx="190476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540000" y="6095880"/>
            <a:ext cx="57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eb.virginia.edu/Heidi/chapter30/chp30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y of fluoroquino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activity against Gram-neg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er activity against Gram-positives but some newer agents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.g. ciprofloxacin maintained for anthr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cidal and have a post antibiotic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icill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cid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s (peptidoglycan synth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icillin binding proteins (P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eptid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 some autolytic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s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u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lactamases (esp. Staph and many Gram-negativ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ce also known via changing PBPs (methicillin-resistance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enG resistance in pneumococc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ins mutations in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seudomon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allow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914400" y="2209680"/>
            <a:ext cx="8001000" cy="12956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533520" y="4191120"/>
            <a:ext cx="3352680" cy="60948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hibi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p to 80% by coadministration with Al and Mg-containing antacids.  Some inhibition by calcium and ferrous 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lso available for i.v.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reted in ur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 ciprofloxacin with 50% bile and 50%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take of Quino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fluoroquino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am-resistant gonococ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stit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ere trimethoprim-sulfamethoxazole not usef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cated ascending UTIs (ureter/kid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atitis (drugs concentrate in prostatic tiss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dose for gonorrhe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ut resistance develo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vic inflammatory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quino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tract inf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uses but may be need in combination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lactams for severe pneumococcal pneumonia or with other drugs w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seudomon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likely (e.g. ventil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ointestinal 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useful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ige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 dose)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lmone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cluding typhoid)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cholera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mpylobacter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5 days).  Resistance a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erse reactions of quino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sea vomiting diarr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ause Q-T interval pro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damage growing cartilage (not recommended in under 18 year olds) but the damage appears reversible and the drugs are likely safe for some us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.g. Pseudomonas in cystic fibro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initis (rare in adults – main &gt;50 years) Usually starts in Achilles tendon - can lead to tendon ru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ly should be avoided during pregnancy since safety not sh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53AA-A33F-4BBE-96DF-4BBC03411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19160" y="304920"/>
            <a:ext cx="6172200" cy="914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ronidazole  (Flagy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286000" cy="17845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3"/>
          <p:cNvSpPr/>
          <p:nvPr/>
        </p:nvSpPr>
        <p:spPr>
          <a:xfrm>
            <a:off x="220680" y="2362320"/>
            <a:ext cx="8667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t charge at physiological pH.  Small molecule enters cell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good bioavailability, can be given or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on mo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lig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aerobic bacteria includ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tridium diffici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ardnerella vagin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usefu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mos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ctinomyces sp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l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pionibacter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P. acnes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of anaerobic protozo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Trichomonas, Giardia, Entamoe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ed after being reduced by ferredox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x potential produced by aerobically growing bacteria not low en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tivate the dru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81CD-4531-46AA-B19A-CCA0B0CF1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152280" y="2895480"/>
            <a:ext cx="5867640" cy="312444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632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redox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redox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 rot="5701200">
            <a:off x="1942920" y="1181160"/>
            <a:ext cx="1143000" cy="7617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3457080" y="457200"/>
            <a:ext cx="171828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ronidaz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552120" y="205740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-lived intermedi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"/>
          <p:cNvSpPr/>
          <p:nvPr/>
        </p:nvSpPr>
        <p:spPr>
          <a:xfrm>
            <a:off x="4343400" y="1066680"/>
            <a:ext cx="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152280" y="2971800"/>
            <a:ext cx="581976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R-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R-N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N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NO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NO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N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N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NO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NO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R-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NHOH + R-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NHOH + 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2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-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6324480" y="2590920"/>
            <a:ext cx="457200" cy="99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6586920" y="3505320"/>
            <a:ext cx="220752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radicals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gment DN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medi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 ar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form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990720" y="4038120"/>
            <a:ext cx="670536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timycobacter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cting resi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microbial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vember 12,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B62B-CF7E-4BDD-B51C-E34F9E0AD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atment of mycobacterial dise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xy cell walls (inhibiting drug diffus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teria live both extracellular and intracell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 growth (drugs must be used for long period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drugs only work for one or a few spe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e disease should be treated using combination therapy with multiple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5A4B-16A9-4CCD-9419-157769BD2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first line agents except Ethambutol are all hepatotoxic and when used together have heightened hepatotoxi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eptomycin (no longer first line because resistance is fairly common) is not hepatotox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using first line agents becomes modified based 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existing hepati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existing drug resis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5686-1F49-429C-B9EF-7B5F75C71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line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soniazid (INH)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s  cell wall fatty acid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for Mtb (not used for other myco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ctivation by Mtb catalase-peroxid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alone in treatment of PPD-positive persons with latent TB (i.e., no active dis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show by Mtb that have lost catalas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show by Mtb with altered INH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r toxicity increases with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oxicities include peripheral neuropathy (often reversible by vitamin B6), lupus-like syndrome (~1% of persons though 20% develop anti-D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376E-3FBE-4024-98A1-162FF9122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use of penicill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rrow spectru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penicillinase-susceptible dru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icillin G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eral – unstable in stomach ac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icillin 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iven or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ptococci, meningococcus, Gram-positive bacilli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cil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Spirochet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epone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Resistance reported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ph aure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eisseria gonorrhoe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p pneumoni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first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fampin (RIF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 at inhibiting and killing bacter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for other mycobacteria including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. lepra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for HIV-associated Mt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uces acetylating enzymes in liver reducing its activity as treatment contin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patotoxicity, itching, and orange staining of secretions are most common side ef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ificant drug interactions (cyclosporine, contraceptives …) since it induces many cytochrome P450 isoforms.  Can’t be used with AZT (zidovudine) since it upregulates the glucuronyl transferase that inactivates thi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used for prophylaxis of contacts of children with activ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. influenza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ype b dis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4D7D-BD25-434F-99D3-23FBF2CC4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first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yrazina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hepatotoxic of first line ag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 killing within macrophages and in caseous le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effective at alkaline or neutral 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aminated in bacteria to make inhibitor of fatty acid synthase.  M. bovis is resistant (has an amino acid substitution in deamina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yarthraligia and hyperuricemia are main side ef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thambut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hibits cell wall arabinogalactan 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iver toxi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ificant toxicities include retrobulbar neuritis affecting visual acuity and severe skin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6F86-602C-494E-A39A-95CF979E7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ptomyc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numerous second line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glycoside  works extracellularl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ities include ototoxicity, circumoral parathesi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ity noted especially for Cranial nerve V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F032-B293-4439-992B-FDAE2AA8C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myco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pson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sulfonamide-like inhibits folate synth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drug therapy used to prevent resistance arising.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ypically dapsone is used with rifampin and clofazimine in lepro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zithromycin or clarithromycin (macrolid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hylaxis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aviu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D4&lt;75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ithromycin has elimination half life ~3 days (i.e. once-a week dosing is possi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88BA-3529-4407-8FBA-EA89EB5EA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1117-8EA5-4750-B7E7-1DBA27555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610480" cy="175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TIMICROBIAL SUSCEPTIBILIT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2E55-2FF5-40C1-867E-45E9C5921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sistance limits usefulness of antimicrobia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identify isolates and also test for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rinsic resistance in some species (no tar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 Development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ing entry of antibiotic or upregulating export p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ation or enzymatic modification of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expressing target or upregulating alternative pathway bypassing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antibiotic directly to inactivat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ing to activate antibioti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5443-09AC-490E-A0A8-65EA482BE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C – a quantitative measure of suscep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inhibitory concentration (MIC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centration of drug that prevents growth in vit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oes not necessarily kill bacterium) when tested over a set period, usually 1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 is an intrinsic property of the bacterium.  It stays the same regardless of site of infection (unless strain develops resistanc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apy should be chosen to s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centration of drug in the areas of infection exceeds the 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777C-99BB-4985-8E20-8428C3851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328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ificance of MIC for clinical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MIC for an antimicrobial is greater than safe therapeutic concentration, bacteria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MIC is below the safe therapeutic level, bacteria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crease in MIC points to resistance devel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, most bacteria can be killed at very high (clinically toxic) concentrations of an antibiotic.  Resistance is decided based on clinically achievable concen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457200" y="1600200"/>
            <a:ext cx="838188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DA3C-D763-49BF-BE4E-19089FB7B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IC determination - Tube dilution assay </a:t>
            </a:r>
            <a:br>
              <a:rPr sz="29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um, growth medium and drug added to each tube then incubated 24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3"/>
          <p:cNvSpPr/>
          <p:nvPr/>
        </p:nvSpPr>
        <p:spPr>
          <a:xfrm rot="5400000">
            <a:off x="456480" y="3846600"/>
            <a:ext cx="2971800" cy="6858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4"/>
          <p:cNvSpPr/>
          <p:nvPr/>
        </p:nvSpPr>
        <p:spPr>
          <a:xfrm rot="5400000">
            <a:off x="1599480" y="3846600"/>
            <a:ext cx="2971800" cy="685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rc 5"/>
          <p:cNvSpPr/>
          <p:nvPr/>
        </p:nvSpPr>
        <p:spPr>
          <a:xfrm rot="5400000">
            <a:off x="2742480" y="3846600"/>
            <a:ext cx="2971800" cy="6858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rc 6"/>
          <p:cNvSpPr/>
          <p:nvPr/>
        </p:nvSpPr>
        <p:spPr>
          <a:xfrm rot="5400000">
            <a:off x="3885840" y="3846600"/>
            <a:ext cx="2971800" cy="685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rc 7"/>
          <p:cNvSpPr/>
          <p:nvPr/>
        </p:nvSpPr>
        <p:spPr>
          <a:xfrm rot="5400000">
            <a:off x="5028840" y="3846600"/>
            <a:ext cx="2971800" cy="68580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rc 8"/>
          <p:cNvSpPr/>
          <p:nvPr/>
        </p:nvSpPr>
        <p:spPr>
          <a:xfrm rot="5400000">
            <a:off x="6171840" y="3846600"/>
            <a:ext cx="2971800" cy="68580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rc 9"/>
          <p:cNvSpPr/>
          <p:nvPr/>
        </p:nvSpPr>
        <p:spPr>
          <a:xfrm rot="5400000">
            <a:off x="-457560" y="3846600"/>
            <a:ext cx="2971800" cy="68580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762120" y="5791320"/>
            <a:ext cx="7848360" cy="642600"/>
          </a:xfrm>
          <a:prstGeom prst="rect">
            <a:avLst/>
          </a:prstGeom>
          <a:solidFill>
            <a:srgbClr val="e4f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             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ntration of drug in tube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/m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 flipV="1">
            <a:off x="7315200" y="224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 flipV="1">
            <a:off x="8001000" y="224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 flipV="1">
            <a:off x="6172200" y="224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4"/>
          <p:cNvSpPr/>
          <p:nvPr/>
        </p:nvSpPr>
        <p:spPr>
          <a:xfrm flipV="1">
            <a:off x="6858000" y="224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V="1">
            <a:off x="5029200" y="224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6"/>
          <p:cNvSpPr/>
          <p:nvPr/>
        </p:nvSpPr>
        <p:spPr>
          <a:xfrm flipV="1">
            <a:off x="5715000" y="224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7"/>
          <p:cNvSpPr/>
          <p:nvPr/>
        </p:nvSpPr>
        <p:spPr>
          <a:xfrm flipV="1">
            <a:off x="3886200" y="224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8"/>
          <p:cNvSpPr/>
          <p:nvPr/>
        </p:nvSpPr>
        <p:spPr>
          <a:xfrm flipV="1">
            <a:off x="4572000" y="224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9"/>
          <p:cNvSpPr/>
          <p:nvPr/>
        </p:nvSpPr>
        <p:spPr>
          <a:xfrm flipV="1">
            <a:off x="2743200" y="224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0"/>
          <p:cNvSpPr/>
          <p:nvPr/>
        </p:nvSpPr>
        <p:spPr>
          <a:xfrm flipV="1">
            <a:off x="3429000" y="224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1600200" y="224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 flipV="1">
            <a:off x="2286000" y="224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 flipV="1">
            <a:off x="685800" y="224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4"/>
          <p:cNvSpPr/>
          <p:nvPr/>
        </p:nvSpPr>
        <p:spPr>
          <a:xfrm flipV="1">
            <a:off x="1371600" y="224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5"/>
          <p:cNvSpPr/>
          <p:nvPr/>
        </p:nvSpPr>
        <p:spPr>
          <a:xfrm rot="5400000">
            <a:off x="4615200" y="3546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C = 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6"/>
          <p:cNvSpPr/>
          <p:nvPr/>
        </p:nvSpPr>
        <p:spPr>
          <a:xfrm>
            <a:off x="1728360" y="1371600"/>
            <a:ext cx="5914080" cy="3988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ceptible isol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rug only toxic above 6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/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1C67-2F9B-469F-B303-48E0FB099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be dilution assay - resistant isol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late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ist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cause drug is toxic above 6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/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rc 3"/>
          <p:cNvSpPr/>
          <p:nvPr/>
        </p:nvSpPr>
        <p:spPr>
          <a:xfrm rot="5400000">
            <a:off x="456480" y="3581280"/>
            <a:ext cx="2971800" cy="6858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rc 4"/>
          <p:cNvSpPr/>
          <p:nvPr/>
        </p:nvSpPr>
        <p:spPr>
          <a:xfrm rot="5400000">
            <a:off x="1599480" y="3581280"/>
            <a:ext cx="2971800" cy="685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rc 5"/>
          <p:cNvSpPr/>
          <p:nvPr/>
        </p:nvSpPr>
        <p:spPr>
          <a:xfrm rot="5400000">
            <a:off x="2742480" y="3581280"/>
            <a:ext cx="2971800" cy="6858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rc 6"/>
          <p:cNvSpPr/>
          <p:nvPr/>
        </p:nvSpPr>
        <p:spPr>
          <a:xfrm rot="5400000">
            <a:off x="3885840" y="3581280"/>
            <a:ext cx="2971800" cy="685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rc 7"/>
          <p:cNvSpPr/>
          <p:nvPr/>
        </p:nvSpPr>
        <p:spPr>
          <a:xfrm rot="5400000">
            <a:off x="5028840" y="3581280"/>
            <a:ext cx="2971800" cy="68580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rc 8"/>
          <p:cNvSpPr/>
          <p:nvPr/>
        </p:nvSpPr>
        <p:spPr>
          <a:xfrm rot="5400000">
            <a:off x="6171840" y="3581280"/>
            <a:ext cx="2971800" cy="68580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rc 9"/>
          <p:cNvSpPr/>
          <p:nvPr/>
        </p:nvSpPr>
        <p:spPr>
          <a:xfrm rot="5400000">
            <a:off x="-457560" y="3581280"/>
            <a:ext cx="2971800" cy="68580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762120" y="5562720"/>
            <a:ext cx="7391160" cy="6426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             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ntration of drug in tube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/m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 flipV="1">
            <a:off x="73152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 flipV="1">
            <a:off x="80010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3"/>
          <p:cNvSpPr/>
          <p:nvPr/>
        </p:nvSpPr>
        <p:spPr>
          <a:xfrm flipV="1">
            <a:off x="61722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 flipV="1">
            <a:off x="68580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 flipV="1">
            <a:off x="50292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6"/>
          <p:cNvSpPr/>
          <p:nvPr/>
        </p:nvSpPr>
        <p:spPr>
          <a:xfrm flipV="1">
            <a:off x="57150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7"/>
          <p:cNvSpPr/>
          <p:nvPr/>
        </p:nvSpPr>
        <p:spPr>
          <a:xfrm flipV="1">
            <a:off x="38862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9"/>
          <p:cNvSpPr/>
          <p:nvPr/>
        </p:nvSpPr>
        <p:spPr>
          <a:xfrm flipV="1">
            <a:off x="27432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0"/>
          <p:cNvSpPr/>
          <p:nvPr/>
        </p:nvSpPr>
        <p:spPr>
          <a:xfrm flipV="1">
            <a:off x="34290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1"/>
          <p:cNvSpPr/>
          <p:nvPr/>
        </p:nvSpPr>
        <p:spPr>
          <a:xfrm flipV="1">
            <a:off x="16002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2"/>
          <p:cNvSpPr/>
          <p:nvPr/>
        </p:nvSpPr>
        <p:spPr>
          <a:xfrm flipV="1">
            <a:off x="22860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3"/>
          <p:cNvSpPr/>
          <p:nvPr/>
        </p:nvSpPr>
        <p:spPr>
          <a:xfrm flipV="1">
            <a:off x="6858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4"/>
          <p:cNvSpPr/>
          <p:nvPr/>
        </p:nvSpPr>
        <p:spPr>
          <a:xfrm flipV="1">
            <a:off x="13716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5"/>
          <p:cNvSpPr/>
          <p:nvPr/>
        </p:nvSpPr>
        <p:spPr>
          <a:xfrm rot="5400000">
            <a:off x="1175040" y="33066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C = 8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use of penicillin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y narrow spectru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penicillinase-resistant 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ethicill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fcil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acil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ily used for infections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ph. aure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ph. epidermi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ce seen with MRSA and with some organisms making  ESB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689D-DFC4-45AE-9B89-31C233906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228600" y="2514600"/>
            <a:ext cx="2895480" cy="2895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5"/>
          <p:cNvSpPr/>
          <p:nvPr/>
        </p:nvSpPr>
        <p:spPr>
          <a:xfrm>
            <a:off x="2286000" y="35053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4"/>
          <p:cNvSpPr/>
          <p:nvPr/>
        </p:nvSpPr>
        <p:spPr>
          <a:xfrm>
            <a:off x="1371600" y="4572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6"/>
          <p:cNvSpPr/>
          <p:nvPr/>
        </p:nvSpPr>
        <p:spPr>
          <a:xfrm>
            <a:off x="700200" y="3110040"/>
            <a:ext cx="99036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 from antibiotic diffusion in a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rby-Ba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6"/>
          <p:cNvSpPr/>
          <p:nvPr/>
        </p:nvSpPr>
        <p:spPr>
          <a:xfrm>
            <a:off x="1066680" y="3505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7"/>
          <p:cNvSpPr/>
          <p:nvPr/>
        </p:nvSpPr>
        <p:spPr>
          <a:xfrm>
            <a:off x="2438280" y="36576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8"/>
          <p:cNvSpPr/>
          <p:nvPr/>
        </p:nvSpPr>
        <p:spPr>
          <a:xfrm>
            <a:off x="1447920" y="4648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3572640" y="1600200"/>
            <a:ext cx="510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oculation of plate with clinical isolate. Antibac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ks are placed on surface. Plates incub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~24 h to allow bacteria to form a la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1"/>
          <p:cNvSpPr/>
          <p:nvPr/>
        </p:nvSpPr>
        <p:spPr>
          <a:xfrm>
            <a:off x="1035360" y="34383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2417760" y="360504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1421640" y="45864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3505320" y="2666880"/>
            <a:ext cx="53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one around antibiotic disc showing no bacterial growth due to presence of antibacterial diffusing out of disk.  Antimicrobial is most concentrated at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rcRect l="15958" t="7969" r="18892" b="7083"/>
          <a:stretch/>
        </p:blipFill>
        <p:spPr>
          <a:xfrm>
            <a:off x="4648320" y="3809880"/>
            <a:ext cx="2877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3" descr=""/>
          <p:cNvPicPr/>
          <p:nvPr/>
        </p:nvPicPr>
        <p:blipFill>
          <a:blip r:embed="rId1"/>
          <a:srcRect l="0" t="0" r="0" b="15552"/>
          <a:stretch/>
        </p:blipFill>
        <p:spPr>
          <a:xfrm>
            <a:off x="228600" y="380880"/>
            <a:ext cx="8410680" cy="6115320"/>
          </a:xfrm>
          <a:prstGeom prst="rect">
            <a:avLst/>
          </a:prstGeom>
          <a:ln w="0">
            <a:noFill/>
          </a:ln>
        </p:spPr>
      </p:pic>
      <p:sp>
        <p:nvSpPr>
          <p:cNvPr id="3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1E46-651D-445B-B6C6-17F135890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FE56-6E56-40C2-A9C3-C26100A5F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TE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® agar diffusion  MIC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scale - not just doubling dilution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8" descr=""/>
          <p:cNvPicPr/>
          <p:nvPr/>
        </p:nvPicPr>
        <p:blipFill>
          <a:blip r:embed="rId1"/>
          <a:srcRect l="32615" t="0" r="0" b="0"/>
          <a:stretch/>
        </p:blipFill>
        <p:spPr>
          <a:xfrm>
            <a:off x="4191120" y="1824120"/>
            <a:ext cx="3938400" cy="3357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"/>
          <p:cNvPicPr/>
          <p:nvPr/>
        </p:nvPicPr>
        <p:blipFill>
          <a:blip r:embed="rId2"/>
          <a:stretch/>
        </p:blipFill>
        <p:spPr>
          <a:xfrm>
            <a:off x="8418600" y="1066680"/>
            <a:ext cx="657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rogate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ypes: tests with one drug to predict response to anot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3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cefoxitin disk for oxacillin-resistant Staph aur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foxitin induc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c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BP2a) more effectively than oxacillin in MRS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at are 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tive producers of PBP2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9570-9316-42BB-B30A-5D94747D4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5823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AA12-997C-4951-BA9F-BE0DA1FB7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lide - Lincosamide - Streptogramin B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6096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aphylococcus aureu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ythromycin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damycin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sult may be correct or may   hide potential to express clindamycin resistance (M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tern) due to methylase.  Erythromycin far better inducer of methylase than is clinda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sistance to clindamycin induced by erythromycin (D-test), this points to M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6172200" y="1905120"/>
            <a:ext cx="2863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4B82-782F-4F90-8D15-23C2F354D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bactericidal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B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inimum bactericidal concentration) – concentration needed to ensure all bacteria 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ty test, only occasionally used when patients lack residual immunity, or when infection may require bactericidal levels such as in endocarditis/osteomyel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5CD6-7F6F-4F47-86A3-2BD4E9F7E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7"/>
          <p:cNvSpPr/>
          <p:nvPr/>
        </p:nvSpPr>
        <p:spPr>
          <a:xfrm>
            <a:off x="762120" y="1143000"/>
            <a:ext cx="5562360" cy="114300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owth of subsample after MIC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in absence of antibiot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rc 5"/>
          <p:cNvSpPr/>
          <p:nvPr/>
        </p:nvSpPr>
        <p:spPr>
          <a:xfrm rot="5400000">
            <a:off x="456480" y="4056120"/>
            <a:ext cx="2971800" cy="6858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rc 6"/>
          <p:cNvSpPr/>
          <p:nvPr/>
        </p:nvSpPr>
        <p:spPr>
          <a:xfrm rot="5400000">
            <a:off x="1599480" y="4056120"/>
            <a:ext cx="2971800" cy="685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rc 7"/>
          <p:cNvSpPr/>
          <p:nvPr/>
        </p:nvSpPr>
        <p:spPr>
          <a:xfrm rot="5400000">
            <a:off x="2742480" y="4056120"/>
            <a:ext cx="2971800" cy="6858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rc 8"/>
          <p:cNvSpPr/>
          <p:nvPr/>
        </p:nvSpPr>
        <p:spPr>
          <a:xfrm rot="5400000">
            <a:off x="3885840" y="4056120"/>
            <a:ext cx="2971800" cy="685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rc 9"/>
          <p:cNvSpPr/>
          <p:nvPr/>
        </p:nvSpPr>
        <p:spPr>
          <a:xfrm rot="5400000">
            <a:off x="5028840" y="4056120"/>
            <a:ext cx="2971800" cy="68580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rc 10"/>
          <p:cNvSpPr/>
          <p:nvPr/>
        </p:nvSpPr>
        <p:spPr>
          <a:xfrm rot="5400000">
            <a:off x="6171840" y="4056120"/>
            <a:ext cx="2971800" cy="68580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11"/>
          <p:cNvSpPr/>
          <p:nvPr/>
        </p:nvSpPr>
        <p:spPr>
          <a:xfrm rot="5400000">
            <a:off x="-457560" y="4056120"/>
            <a:ext cx="2971800" cy="68580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762120" y="5867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        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.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rug concn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/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3"/>
          <p:cNvSpPr/>
          <p:nvPr/>
        </p:nvSpPr>
        <p:spPr>
          <a:xfrm flipV="1">
            <a:off x="7315200" y="2455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4"/>
          <p:cNvSpPr/>
          <p:nvPr/>
        </p:nvSpPr>
        <p:spPr>
          <a:xfrm flipV="1">
            <a:off x="8001000" y="2455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5"/>
          <p:cNvSpPr/>
          <p:nvPr/>
        </p:nvSpPr>
        <p:spPr>
          <a:xfrm flipV="1">
            <a:off x="6172200" y="2455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6"/>
          <p:cNvSpPr/>
          <p:nvPr/>
        </p:nvSpPr>
        <p:spPr>
          <a:xfrm flipV="1">
            <a:off x="6858000" y="2455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7"/>
          <p:cNvSpPr/>
          <p:nvPr/>
        </p:nvSpPr>
        <p:spPr>
          <a:xfrm flipV="1">
            <a:off x="5029200" y="2455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8"/>
          <p:cNvSpPr/>
          <p:nvPr/>
        </p:nvSpPr>
        <p:spPr>
          <a:xfrm flipV="1">
            <a:off x="5715000" y="2455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9"/>
          <p:cNvSpPr/>
          <p:nvPr/>
        </p:nvSpPr>
        <p:spPr>
          <a:xfrm flipV="1">
            <a:off x="3886200" y="2455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0"/>
          <p:cNvSpPr/>
          <p:nvPr/>
        </p:nvSpPr>
        <p:spPr>
          <a:xfrm flipV="1">
            <a:off x="4572000" y="2455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1"/>
          <p:cNvSpPr/>
          <p:nvPr/>
        </p:nvSpPr>
        <p:spPr>
          <a:xfrm flipV="1">
            <a:off x="2743200" y="2455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2"/>
          <p:cNvSpPr/>
          <p:nvPr/>
        </p:nvSpPr>
        <p:spPr>
          <a:xfrm flipV="1">
            <a:off x="3429000" y="2455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3"/>
          <p:cNvSpPr/>
          <p:nvPr/>
        </p:nvSpPr>
        <p:spPr>
          <a:xfrm flipV="1">
            <a:off x="1600200" y="2455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4"/>
          <p:cNvSpPr/>
          <p:nvPr/>
        </p:nvSpPr>
        <p:spPr>
          <a:xfrm flipV="1">
            <a:off x="2286000" y="2455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5"/>
          <p:cNvSpPr/>
          <p:nvPr/>
        </p:nvSpPr>
        <p:spPr>
          <a:xfrm flipV="1">
            <a:off x="685800" y="2455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6"/>
          <p:cNvSpPr/>
          <p:nvPr/>
        </p:nvSpPr>
        <p:spPr>
          <a:xfrm flipV="1">
            <a:off x="1371600" y="2455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8"/>
          <p:cNvSpPr/>
          <p:nvPr/>
        </p:nvSpPr>
        <p:spPr>
          <a:xfrm>
            <a:off x="1981080" y="234324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9"/>
          <p:cNvSpPr/>
          <p:nvPr/>
        </p:nvSpPr>
        <p:spPr>
          <a:xfrm>
            <a:off x="5362560" y="234324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1"/>
          <p:cNvSpPr/>
          <p:nvPr/>
        </p:nvSpPr>
        <p:spPr>
          <a:xfrm>
            <a:off x="3048120" y="234324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2"/>
          <p:cNvSpPr/>
          <p:nvPr/>
        </p:nvSpPr>
        <p:spPr>
          <a:xfrm>
            <a:off x="4248000" y="234324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3"/>
          <p:cNvSpPr/>
          <p:nvPr/>
        </p:nvSpPr>
        <p:spPr>
          <a:xfrm>
            <a:off x="990720" y="234324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4"/>
          <p:cNvSpPr/>
          <p:nvPr/>
        </p:nvSpPr>
        <p:spPr>
          <a:xfrm>
            <a:off x="703440" y="1886040"/>
            <a:ext cx="65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+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+          +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3"/>
          <p:cNvSpPr/>
          <p:nvPr/>
        </p:nvSpPr>
        <p:spPr>
          <a:xfrm>
            <a:off x="1477440" y="380880"/>
            <a:ext cx="6427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nimum bactericidal concentration  M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4"/>
          <p:cNvSpPr/>
          <p:nvPr/>
        </p:nvSpPr>
        <p:spPr>
          <a:xfrm>
            <a:off x="457200" y="2438280"/>
            <a:ext cx="7696080" cy="1219320"/>
          </a:xfrm>
          <a:prstGeom prst="rect">
            <a:avLst/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93BF-8A4A-4B88-BEFE-8F1A1F23B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ed spectrum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lactamases   ESB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ver 340 different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lactamases in Gram-negative rod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me have very limited substrate activity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.g. the plasmid-mediated penicillinases with little activity against cephalospori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V-1-  ~ 100%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Klebsiella pneumonia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solates  (confers R to ampicillin+ticarcilli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M-1 - ~ 50% (currently )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solates (confers R to ampicillin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utations in the genes for SHV-1 and TEM-1 → extended-spectrum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lactamases (ESBL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se show with activity against ALL the penicillins, cephalosporins, and aztreonam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BL-producers often resistant to other groups of antibiotic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st common in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Klebsiella pneumoniae, K. oxytoca, E. coli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ut also in other Gram-negativ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610840" cy="102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icrobes exist in complex commun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apeutic alterations to  “microbio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bio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s directly targeting (inhibiting/killing) micro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biotic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ested ingredients that selectively stimulate one or a group of bacteria in the colon:  e.g. lactulose used to reduce 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organisms, which when administered in adequate amounts, confer a health benefit on th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5779-463C-4A47-807E-4765A14B6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df21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ed antibiot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cterioph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interest in bacteriophages to attack biofilms and at other si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are highly species-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bacteria attacked by a large number of different bacteriophages suggesting several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lysis of cell wall bright about by murein (peptidoglycan) hydrolases produced during infection (similar structures to bacterial peptidoglycan hydro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762120" y="2895480"/>
            <a:ext cx="46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E2B0-1907-4D31-844C-398F076E9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nical use of penicillin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oader spectru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penicillinase-susceptible 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picillin and amoxicil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PenG susceptible agents and also for enterococci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steria, E. coli, Proteus, Haemophilus influenzae, Moraxellam catarrh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combination with penicillinase inhibit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clavulanic ac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ergy shown with aminoglycosides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ster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nterococ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639720"/>
          </a:xfrm>
          <a:prstGeom prst="rect">
            <a:avLst/>
          </a:prstGeom>
          <a:solidFill>
            <a:srgbClr val="fdf21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ysins produced during intracellular growth by bacterioph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1390680" y="289548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2" descr=""/>
          <p:cNvPicPr/>
          <p:nvPr/>
        </p:nvPicPr>
        <p:blipFill>
          <a:blip r:embed="rId1"/>
          <a:stretch/>
        </p:blipFill>
        <p:spPr>
          <a:xfrm>
            <a:off x="704880" y="774720"/>
            <a:ext cx="7620120" cy="57024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13"/>
          <p:cNvSpPr/>
          <p:nvPr/>
        </p:nvSpPr>
        <p:spPr>
          <a:xfrm>
            <a:off x="1462680" y="6461280"/>
            <a:ext cx="563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ermoso et al., Current Opinion in Microbiology 2007, 10:461-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4825800" y="4572000"/>
            <a:ext cx="3524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ysins transferred to wall via p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olins) produced by phage d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e lysins can act at outsid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terial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7434-7755-4D69-82F9-151AF60B1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4"/>
          <p:cNvSpPr/>
          <p:nvPr/>
        </p:nvSpPr>
        <p:spPr>
          <a:xfrm>
            <a:off x="762120" y="3581280"/>
            <a:ext cx="792468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otential problems of bacteriophage therap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host range of most lytic ph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 can become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y responses may neutraliz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rmacokinetics not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to mobilize and transfer 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phage lytic enzymes appears to avoid most of these problems.   Resistance does not seem to 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861F-4051-4ACD-BF15-3251A2DDF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df21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io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organisms, which when administered in adequate amounts, confer a health benefit on the host.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 must be abl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on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work within context of a biofi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ions suggest usefulness in halitosis and maybe caries (tooth deca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evidence for value in pouchitis following ileal pouch-anal anasto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A304-70C6-457D-B42D-C35548775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ecal flora therapy in relapsing </a:t>
            </a:r>
            <a:br>
              <a:rPr sz="2900"/>
            </a:b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Clostridium difficil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olit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%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. diffic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itis do not respond permanently to treatment wi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onidazo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vancomycin and develop a rela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cal flora replacement with non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. diffic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or has been reported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research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B674-73D8-4D44-9F2E-F6019B3E1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crobial intestinal flora may prime for allergic respon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biotic-treated and Candida colonized m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4" descr="MPj03144060000[1]"/>
          <p:cNvPicPr/>
          <p:nvPr/>
        </p:nvPicPr>
        <p:blipFill>
          <a:blip r:embed="rId1"/>
          <a:stretch/>
        </p:blipFill>
        <p:spPr>
          <a:xfrm>
            <a:off x="380880" y="3962520"/>
            <a:ext cx="2590920" cy="12078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5"/>
          <p:cNvSpPr/>
          <p:nvPr/>
        </p:nvSpPr>
        <p:spPr>
          <a:xfrm>
            <a:off x="68580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734760" y="6208560"/>
            <a:ext cx="427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verr et al. Infect. Immun. 2005;73:30-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9"/>
          <p:cNvSpPr/>
          <p:nvPr/>
        </p:nvSpPr>
        <p:spPr>
          <a:xfrm>
            <a:off x="593640" y="25909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fopera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0"/>
          <p:cNvSpPr/>
          <p:nvPr/>
        </p:nvSpPr>
        <p:spPr>
          <a:xfrm>
            <a:off x="3276720" y="25909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±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andida albica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5638680" y="25909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gen/spore lung challenge for 2-3 wee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2" descr="MPj03144060000[1]"/>
          <p:cNvPicPr/>
          <p:nvPr/>
        </p:nvPicPr>
        <p:blipFill>
          <a:blip r:embed="rId2"/>
          <a:stretch/>
        </p:blipFill>
        <p:spPr>
          <a:xfrm>
            <a:off x="2743200" y="3962520"/>
            <a:ext cx="2743200" cy="12794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4" descr="MPj03144060000[1]"/>
          <p:cNvPicPr/>
          <p:nvPr/>
        </p:nvPicPr>
        <p:blipFill>
          <a:blip r:embed="rId3"/>
          <a:stretch/>
        </p:blipFill>
        <p:spPr>
          <a:xfrm>
            <a:off x="5257800" y="3962520"/>
            <a:ext cx="2743200" cy="1279440"/>
          </a:xfrm>
          <a:prstGeom prst="rect">
            <a:avLst/>
          </a:prstGeom>
          <a:ln w="0">
            <a:noFill/>
          </a:ln>
        </p:spPr>
      </p:pic>
      <p:sp>
        <p:nvSpPr>
          <p:cNvPr id="439" name="Line 27"/>
          <p:cNvSpPr/>
          <p:nvPr/>
        </p:nvSpPr>
        <p:spPr>
          <a:xfrm>
            <a:off x="2362320" y="29718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8"/>
          <p:cNvSpPr/>
          <p:nvPr/>
        </p:nvSpPr>
        <p:spPr>
          <a:xfrm>
            <a:off x="4952880" y="297180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A445-11E5-457C-BE02-4522ECB75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 in intestinal flora may prime for allergic responses in lung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is IL-13 depen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-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dida Untreated mice                            Mice treated with cefoperazone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5 days  and colonized wit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 albic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68580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750600" y="6400800"/>
            <a:ext cx="427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verr et al. Infect. Immun. 2005;73:30-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5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6019920" cy="422604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17"/>
          <p:cNvSpPr/>
          <p:nvPr/>
        </p:nvSpPr>
        <p:spPr>
          <a:xfrm>
            <a:off x="7492320" y="2362320"/>
            <a:ext cx="152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Challenge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Aspergillus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p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4 times in 12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fter Cand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8"/>
          <p:cNvSpPr/>
          <p:nvPr/>
        </p:nvSpPr>
        <p:spPr>
          <a:xfrm>
            <a:off x="7450560" y="4419720"/>
            <a:ext cx="1499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valbu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 times in 21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fter Cand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9"/>
          <p:cNvSpPr/>
          <p:nvPr/>
        </p:nvSpPr>
        <p:spPr>
          <a:xfrm flipH="1">
            <a:off x="6934320" y="29718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0"/>
          <p:cNvSpPr/>
          <p:nvPr/>
        </p:nvSpPr>
        <p:spPr>
          <a:xfrm flipH="1">
            <a:off x="6934320" y="49528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1"/>
          <p:cNvSpPr/>
          <p:nvPr/>
        </p:nvSpPr>
        <p:spPr>
          <a:xfrm>
            <a:off x="6705720" y="5599080"/>
            <a:ext cx="2438280" cy="9169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I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blet cell metapl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ung eosinoph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3EB9-F009-4EC2-A625-974A3A598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biotics and asthma in hu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biotic usage changes microbial flora in intestine and changes stay for significant time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lostridia and Candida (stimulatory 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lactobacilli (butyrate, anti-inflamma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allows increased chances of developing asth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papers suggest antibiotic use early in life is a risk factor for asth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on that probiotics given infant may reduce tendency to develop asthma (some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C389-89A2-4D32-B5C1-67BF430D0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vi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17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otide RT Inhibitors (NRT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dovudine (AZ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Lamivudine (3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HIV, 3TC also for chronic Hep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anosine (d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T resistant HIV, causes pancreatitis (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vudine (d4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RT Inhib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ofov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s viral RT, can replace N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Nucleoside RT Inhibitors (NNR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ira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s to RT, steric hindrance to Tri-P, hepato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V Fusion Inhib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uvirtide (Fuze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s to HIV-1 gp41 and prevents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oader spectru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penicillinase-susceptible 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peracillin and ticarcil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e against several Gram-negative r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mon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erobacter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lebsi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ergistic with main glyco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sed with penicillinase inhib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nical use of penicillin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ase Inhibi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hibit viral “maturation” by blocking cleavage of gag viral polyproteins by prote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podystrophy, induce/worsen diabe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dney stones, diarrhea, increased serum T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navir, Saquinavir, Ritonavir, Lopinavir, Nefinavir, Amprenav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ZT and 3TC plus NNRTI and/or protease inhibi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pes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ks kinase put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gar on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yclov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acyclov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nciclov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iclov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ciclov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ca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arab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pes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yclo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ring, chain term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SV &gt; VZV &gt;&gt; (CMV non-theraputic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mortality 50% in herpes encephal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l, CNS tox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GI absorption (2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acyclo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rug for Acyclov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GI absorption (6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pes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nciclov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s CM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ention of disease in immunocompromi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NS tox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nciclov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s Zoster (longer half-lif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ciclov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rug for Penciclovir, increases GI absor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pid resolution of zoster-associated p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pes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ca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polymerase by blocking PPi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 acyclovir-resistant, CMV retin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xic, used only in life-threatening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arab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al for HSV keratoconjunctiv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pesvirus – Eye Inf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ivir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vitreal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sense oligonucleotides, RNA sil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fluridine, Idoxuridine, Vidarabin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side ana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n termin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 Herpes kerat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ntadine and Rimanta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works on type A (needs pH &lt;6 to f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ibits M2 proton pump (buffers pH &gt;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mantadine more potent, less CNS tox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eltamivir (Tamiflu) and Zanami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amidase inhibitor (cleavage of sial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s type A and B, approved treatment of f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pat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binant Interferon Alpha 2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patitis B, Kaposi’s sarcoma, H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g-Interferon Alpha (Pegas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patiti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table in cir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 with ribavi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V, La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livizumab (Synagi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oclonal Ab to neutralize RSV F-glycoprote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cks f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s infants &lt;2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bavir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uanosine an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uses mutations (base substituti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 with IFN for HC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protoz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 8 Independen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xicity of penici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, diarrhea are fairly common, especially with oral penicill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rgy (including anaphylaxis or induction of Type II and III reactions).  Persons with allergy may be desensitized if necessary using a ~3-4 h rapid desensitizatio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icill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 cause nephr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fcill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 cause neutrop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picill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ten causes a maculopapular rash.  This can be very pronounced if ampicillin is given to someone with mononucleosis (EBV) when the reaction is almost diagnostic for infective mononucle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aria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lasmo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falciparum, P. malari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elimination of only erythrocytic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vivax, P. ov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elimination of erythrocyt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patic para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qu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aminoquinoline, concentrates in acidic food vacuole of parasite, binds heme and is toxic to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longer advised for prophylaxis due to resistance by chloroquine efflux pu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 chloroquine-sensitive falciparum and non-falciparum (vivax, ovale, malaria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nine and Quini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effective antimalarial, now repl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ived from bark of cinchona tree (Per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its hemozoin biocrystallization leading to aggregation of cytotoxic 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not be given to persons with G6PDH deficiency because of hem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ause cinchonism (flushing, tinnitus, lichenoid photosensi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floqu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treat chloroquine resistant P. falciparum (and vivax) plus doxycyc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tic analog of qui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effective prophylaxis (1 q wk x 4 wk) for thousands trave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qu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treat P. vivax and ovale after chloroquine treatment (which removes parasie from blood) by removing parasite from liver (14 day cour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not be given to persons with G6PDH deficiency because of hem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tre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neumocys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neun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imetha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treat malaria and toxoplasm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its dihydrofolate reductase in folic acid synthesis necessary for 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in combination with sulfonamide (inhibits dihydropteroate synthase, synergistic respo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be given in combination with clindamycin to treat toxoplasm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ar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qvaquone + Proguan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drug (2000) to treat chloroquine-resistant malaria with less side effects than mefloqu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s with pyrimidine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also be used for Toxoplasmosis, PCP if patient is allergic to TMP-S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not be used to treat severe 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A900-3C7B-457B-9E97-C4D62BA22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19160" y="304920"/>
            <a:ext cx="6172200" cy="914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ronidazole  (Flagy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1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286000" cy="178452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13"/>
          <p:cNvSpPr/>
          <p:nvPr/>
        </p:nvSpPr>
        <p:spPr>
          <a:xfrm>
            <a:off x="220680" y="2362320"/>
            <a:ext cx="8667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t charge at physiological pH.  Small molecule enters cell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good bioavailability, can be given or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on mo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lig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aerobic bacteria includ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tridium diffici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ardnerella vagin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usefu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mos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ctinomyces sp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l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pionibacter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P. acnes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ffective of anaerobic protozoa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Trichomonas, Giardia, Entamoe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ed after being reduced by ferredox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x potential produced by aerobically growing bacteria not low en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tivate the dru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omomycin and Nitazoxan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s cryptosporidium, giardiai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fter metronidazole when treating Entamoeba to eliminate cyst pa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omomycin inhibits protein synthesis (16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azonanide is prodrug hydrolized to tizoxanide, anti-diarrh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elminthic and Antiectoparasi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 9 Independen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0:56:55Z</dcterms:created>
  <dc:creator>pflehmann</dc:creator>
  <dc:description/>
  <dc:language>en-US</dc:language>
  <cp:lastModifiedBy>JP</cp:lastModifiedBy>
  <dcterms:modified xsi:type="dcterms:W3CDTF">2008-11-13T21:19:50Z</dcterms:modified>
  <cp:revision>67</cp:revision>
  <dc:subject/>
  <dc:title>Slide 1</dc:title>
</cp:coreProperties>
</file>